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CE3-5528-49EE-9CC9-C3A48B00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3D7-50C4-4C23-B4BC-10CF33FC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201-59C8-440A-9388-295DA889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F2C-8765-475A-8497-F1E5C57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29D-BCBD-4B9A-B970-9C682B48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F0D-341B-434E-8DC7-93F8E4F3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B1E-D840-4A1A-B52B-724E34B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D6E-D4B2-4DC2-AE00-CD640C5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171-D250-4573-BC24-82A8F59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D66-F658-4AB6-B120-A7473AE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73A-6A3D-4EC3-9B2C-5060C8F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EBC-3D2D-4CD9-A826-1D0D72C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11B4-59AA-4650-8E0C-10F41375A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Britannic Bold"/>
              </a:rPr>
              <a:t>Grammar Flash Car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Parts of a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62120" y="609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What is a noun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5">
            <a:hlinkClick r:id="rId1" action="ppaction://hlinksldjump"/>
          </p:cNvPr>
          <p:cNvSpPr/>
          <p:nvPr/>
        </p:nvSpPr>
        <p:spPr>
          <a:xfrm>
            <a:off x="6019920" y="5257800"/>
            <a:ext cx="2819160" cy="1295280"/>
          </a:xfrm>
          <a:custGeom>
            <a:avLst/>
            <a:gdLst>
              <a:gd name="textAreaLeft" fmla="*/ 83880 w 2819160"/>
              <a:gd name="textAreaRight" fmla="*/ 2735280 w 28191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47005" h="21600">
                <a:moveTo>
                  <a:pt x="0" y="0"/>
                </a:moveTo>
                <a:lnTo>
                  <a:pt x="47005" y="0"/>
                </a:lnTo>
                <a:lnTo>
                  <a:pt x="47005" y="21600"/>
                </a:lnTo>
                <a:lnTo>
                  <a:pt x="0" y="21600"/>
                </a:lnTo>
                <a:close/>
              </a:path>
              <a:path fill="lightenLess" w="47005" h="21600">
                <a:moveTo>
                  <a:pt x="0" y="0"/>
                </a:moveTo>
                <a:lnTo>
                  <a:pt x="47005" y="0"/>
                </a:lnTo>
                <a:lnTo>
                  <a:pt x="45605" y="1400"/>
                </a:lnTo>
                <a:lnTo>
                  <a:pt x="1400" y="1400"/>
                </a:lnTo>
                <a:close/>
              </a:path>
              <a:path fill="darken" w="47005" h="21600">
                <a:moveTo>
                  <a:pt x="47005" y="0"/>
                </a:moveTo>
                <a:lnTo>
                  <a:pt x="47005" y="21600"/>
                </a:lnTo>
                <a:lnTo>
                  <a:pt x="45605" y="20200"/>
                </a:lnTo>
                <a:lnTo>
                  <a:pt x="45605" y="1400"/>
                </a:lnTo>
                <a:close/>
              </a:path>
              <a:path fill="darkenLess" w="47005" h="21600">
                <a:moveTo>
                  <a:pt x="47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05" y="20200"/>
                </a:lnTo>
                <a:close/>
              </a:path>
              <a:path fill="lighten" w="47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05" h="21600">
                <a:moveTo>
                  <a:pt x="16496" y="3794"/>
                </a:moveTo>
                <a:lnTo>
                  <a:pt x="30509" y="10800"/>
                </a:lnTo>
                <a:lnTo>
                  <a:pt x="164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257800" y="4114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Click here for  answ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5800" y="6094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A noun is a person, place, or 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j0301252"/>
          <p:cNvPicPr/>
          <p:nvPr/>
        </p:nvPicPr>
        <p:blipFill>
          <a:blip r:embed="rId1"/>
          <a:stretch/>
        </p:blipFill>
        <p:spPr>
          <a:xfrm>
            <a:off x="228600" y="281952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j0185604"/>
          <p:cNvPicPr/>
          <p:nvPr/>
        </p:nvPicPr>
        <p:blipFill>
          <a:blip r:embed="rId2"/>
          <a:stretch/>
        </p:blipFill>
        <p:spPr>
          <a:xfrm>
            <a:off x="3276720" y="2743200"/>
            <a:ext cx="25146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MCj02327600000[1]"/>
          <p:cNvPicPr/>
          <p:nvPr/>
        </p:nvPicPr>
        <p:blipFill>
          <a:blip r:embed="rId3"/>
          <a:stretch/>
        </p:blipFill>
        <p:spPr>
          <a:xfrm>
            <a:off x="6324480" y="2743200"/>
            <a:ext cx="2514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8380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What is a Verb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5">
            <a:hlinkClick r:id="rId1" action="ppaction://hlinksldjump"/>
          </p:cNvPr>
          <p:cNvSpPr/>
          <p:nvPr/>
        </p:nvSpPr>
        <p:spPr>
          <a:xfrm>
            <a:off x="4572000" y="4724280"/>
            <a:ext cx="3809880" cy="1752840"/>
          </a:xfrm>
          <a:custGeom>
            <a:avLst/>
            <a:gdLst>
              <a:gd name="textAreaLeft" fmla="*/ 113400 w 3809880"/>
              <a:gd name="textAreaRight" fmla="*/ 3696480 w 38098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46943" h="21600">
                <a:moveTo>
                  <a:pt x="0" y="0"/>
                </a:moveTo>
                <a:lnTo>
                  <a:pt x="46943" y="0"/>
                </a:lnTo>
                <a:lnTo>
                  <a:pt x="46943" y="21600"/>
                </a:lnTo>
                <a:lnTo>
                  <a:pt x="0" y="21600"/>
                </a:lnTo>
                <a:close/>
              </a:path>
              <a:path fill="lightenLess" w="46943" h="21600">
                <a:moveTo>
                  <a:pt x="0" y="0"/>
                </a:moveTo>
                <a:lnTo>
                  <a:pt x="46943" y="0"/>
                </a:lnTo>
                <a:lnTo>
                  <a:pt x="45543" y="1400"/>
                </a:lnTo>
                <a:lnTo>
                  <a:pt x="1400" y="1400"/>
                </a:lnTo>
                <a:close/>
              </a:path>
              <a:path fill="darken" w="46943" h="21600">
                <a:moveTo>
                  <a:pt x="46943" y="0"/>
                </a:moveTo>
                <a:lnTo>
                  <a:pt x="46943" y="21600"/>
                </a:lnTo>
                <a:lnTo>
                  <a:pt x="45543" y="20200"/>
                </a:lnTo>
                <a:lnTo>
                  <a:pt x="45543" y="1400"/>
                </a:lnTo>
                <a:close/>
              </a:path>
              <a:path fill="darkenLess" w="46943" h="21600">
                <a:moveTo>
                  <a:pt x="46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" y="20200"/>
                </a:lnTo>
                <a:close/>
              </a:path>
              <a:path fill="lighten" w="46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943" h="21600">
                <a:moveTo>
                  <a:pt x="16465" y="3794"/>
                </a:moveTo>
                <a:lnTo>
                  <a:pt x="30478" y="10800"/>
                </a:lnTo>
                <a:lnTo>
                  <a:pt x="1646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67080" y="327672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Click here for answ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62120" y="7621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A verb is a word that shows action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6" descr="MCj04379380000[1]"/>
          <p:cNvPicPr/>
          <p:nvPr/>
        </p:nvPicPr>
        <p:blipFill>
          <a:blip r:embed="rId1"/>
          <a:stretch/>
        </p:blipFill>
        <p:spPr>
          <a:xfrm>
            <a:off x="228600" y="2895480"/>
            <a:ext cx="2590920" cy="3124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2860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W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8" descr="MCj01572130000[1]"/>
          <p:cNvPicPr/>
          <p:nvPr/>
        </p:nvPicPr>
        <p:blipFill>
          <a:blip r:embed="rId2"/>
          <a:stretch/>
        </p:blipFill>
        <p:spPr>
          <a:xfrm>
            <a:off x="3124080" y="281952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767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1" descr="MCj04345810000[1]"/>
          <p:cNvPicPr/>
          <p:nvPr/>
        </p:nvPicPr>
        <p:blipFill>
          <a:blip r:embed="rId3"/>
          <a:stretch/>
        </p:blipFill>
        <p:spPr>
          <a:xfrm>
            <a:off x="6019920" y="297180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662940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Ju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2:19:46Z</dcterms:created>
  <dc:creator>Zack Blackwell</dc:creator>
  <dc:description/>
  <dc:language>en-US</dc:language>
  <cp:lastModifiedBy>patron</cp:lastModifiedBy>
  <dcterms:modified xsi:type="dcterms:W3CDTF">2009-02-25T16:03:11Z</dcterms:modified>
  <cp:revision>6</cp:revision>
  <dc:subject/>
  <dc:title>Grammar Flash Cards</dc:title>
</cp:coreProperties>
</file>